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B861-D97D-4090-B2FA-91715498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4D5E-2E82-45D0-8F66-E7399273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EEA5-BB2E-4B4E-A57F-7EBEE98B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ED4F-DA45-4CEB-A788-97A8C02E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18F9-3708-4FEB-827A-35F5AB93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0AC8-3526-436A-82A6-1253D400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2EA7-7D21-48A8-BE8F-56A58F01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6DA8-DC19-4A1E-ADFC-E5E227EC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8264-F56E-4C58-B26C-6A30B41B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CAC5-7458-4DE1-8FCD-846515F4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0848-52F6-43E7-A034-453DED12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7D8E-93E0-49FA-9A1B-E118512F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6A74-3383-4EA5-9D5E-AD9F6CBA9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esson 12-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phing Inequalities in Two Vari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   Next, we determine which half-plane contains all the solutions.  To do this, substitute 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rdered pai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om each half-plane in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riginal inequal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Find which point results in a true statement.  Shade the half-plane that contains this ordered pai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.   Any point in the shaded region is a solution of the ine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t’s graph y &gt; x +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graph y &gt; x + 2, we need to determine the boundary by graphing the related equation.  What would be the related equation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&gt; x + 2?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TPChart"/>
          <p:cNvGraphicFramePr/>
          <p:nvPr/>
        </p:nvGraphicFramePr>
        <p:xfrm>
          <a:off x="4343400" y="121932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21932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&gt; 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&lt; 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CorShape1"/>
          <p:cNvSpPr/>
          <p:nvPr/>
        </p:nvSpPr>
        <p:spPr>
          <a:xfrm>
            <a:off x="1133640" y="2378160"/>
            <a:ext cx="1584000" cy="487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elated equation is y = x + 2.   Is this equation in slope-intercept 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TPChart"/>
          <p:cNvGraphicFramePr/>
          <p:nvPr/>
        </p:nvGraphicFramePr>
        <p:xfrm>
          <a:off x="4267080" y="129528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9528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rShape1"/>
          <p:cNvSpPr/>
          <p:nvPr/>
        </p:nvSpPr>
        <p:spPr>
          <a:xfrm>
            <a:off x="223920" y="174312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ince y = x + 2 is in slope – intercept form, find m and 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TPChart"/>
          <p:cNvGraphicFramePr/>
          <p:nvPr/>
        </p:nvGraphicFramePr>
        <p:xfrm>
          <a:off x="4267080" y="121932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1932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0, b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2, b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2, b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1, b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rShape1"/>
          <p:cNvSpPr/>
          <p:nvPr/>
        </p:nvSpPr>
        <p:spPr>
          <a:xfrm>
            <a:off x="1133640" y="3398760"/>
            <a:ext cx="2152440" cy="487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ph y = x +2 on the coordinate plane by plotting the y – intercept of 2 first.  Then from 2, rise a positive one and run a positive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member:  You need at least three points on your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fore your draw your line, we must determine if it is a solid or a dotted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 REMEMBER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inequality is y &gt; x + 2.  Is the line dotted or sol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TPChart"/>
          <p:cNvGraphicFramePr/>
          <p:nvPr/>
        </p:nvGraphicFramePr>
        <p:xfrm>
          <a:off x="4191120" y="137160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37160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CorShape1"/>
          <p:cNvSpPr/>
          <p:nvPr/>
        </p:nvSpPr>
        <p:spPr>
          <a:xfrm>
            <a:off x="223920" y="1743120"/>
            <a:ext cx="291960" cy="29196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ce the inequality is &gt;, the line will be dotted.  Connect your three dots with a dotted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4647960" cy="4567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4191120" y="2209680"/>
            <a:ext cx="3733560" cy="3733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, we have to determine which half plane contains all the solutions to our inequality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are going to use (4,0) for the lower half plane and (-1, 4) for the upper half plan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57800" y="2895480"/>
            <a:ext cx="3505320" cy="3444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>
            <a:off x="5410080" y="3123720"/>
            <a:ext cx="3048120" cy="3048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67480" y="46483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41148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2743200"/>
            <a:ext cx="4190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test each point by substituting the x and y coordinates from each point into the original inequality.  The half plane that contains the point that gives a true statement, is the solution half-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’s try (4, 0) first.  4 is the x -coordinate and 0 is the y – coordin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stitution:  y  &gt; 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  &gt;  4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  &gt;   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40384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ce the substitution results in a false statement, the half-plane that contains the point (4, 0) is not the solution plane.  Try the point (-1, 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oes the ordered pair (-1, 4) make a true stat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TPChart"/>
          <p:cNvGraphicFramePr/>
          <p:nvPr/>
        </p:nvGraphicFramePr>
        <p:xfrm>
          <a:off x="4267080" y="114300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14300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CorShape1"/>
          <p:cNvSpPr/>
          <p:nvPr/>
        </p:nvSpPr>
        <p:spPr>
          <a:xfrm>
            <a:off x="223920" y="1743120"/>
            <a:ext cx="291960" cy="29196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y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work:  pg. 539 #15 – 27 odd; 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40384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 (-1, 4) makes a true statement, the half-plane that contains this point is the solution half-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finish our graph, we need to shade this half-plan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are finished graphing y &gt; x +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4343400" cy="4267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V="1">
            <a:off x="4724280" y="1600200"/>
            <a:ext cx="3733920" cy="3733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 rot="19404000">
            <a:off x="3902040" y="1644480"/>
            <a:ext cx="4019760" cy="194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Solution Half-Plan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ame another ordered pair that is a solution to y &gt; x +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TPChart"/>
          <p:cNvGraphicFramePr/>
          <p:nvPr/>
        </p:nvGraphicFramePr>
        <p:xfrm>
          <a:off x="4572000" y="121932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21932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0,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-5, 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4, 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-1, 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orShape1"/>
          <p:cNvSpPr/>
          <p:nvPr/>
        </p:nvSpPr>
        <p:spPr>
          <a:xfrm rot="10800000">
            <a:off x="223560" y="232704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y to graph y &gt; -x + 3 on your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y &gt; -x + 3 in slope – intercept fo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TPChart"/>
          <p:cNvGraphicFramePr/>
          <p:nvPr/>
        </p:nvGraphicFramePr>
        <p:xfrm>
          <a:off x="4191120" y="114300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14300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orShape1"/>
          <p:cNvSpPr/>
          <p:nvPr/>
        </p:nvSpPr>
        <p:spPr>
          <a:xfrm>
            <a:off x="1133640" y="1646280"/>
            <a:ext cx="704520" cy="487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25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ll the line for y &gt; -x + 3 be dotted or sol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TPChart"/>
          <p:cNvGraphicFramePr/>
          <p:nvPr/>
        </p:nvGraphicFramePr>
        <p:xfrm>
          <a:off x="4267080" y="121932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1932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CorShape1"/>
          <p:cNvSpPr/>
          <p:nvPr/>
        </p:nvSpPr>
        <p:spPr>
          <a:xfrm rot="10800000">
            <a:off x="223560" y="174276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ut -2x + y ≤ 10 in slope – intercept fo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TPChart"/>
          <p:cNvGraphicFramePr/>
          <p:nvPr/>
        </p:nvGraphicFramePr>
        <p:xfrm>
          <a:off x="4572000" y="129528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29528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≤ 10 –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≥ -2x +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≤ 2x +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≤ 10 –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CorShape1"/>
          <p:cNvSpPr/>
          <p:nvPr/>
        </p:nvSpPr>
        <p:spPr>
          <a:xfrm>
            <a:off x="1133640" y="2814480"/>
            <a:ext cx="1993680" cy="487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ll the line be solid or dotted for -2x + y ≤ 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TPChart"/>
          <p:cNvGraphicFramePr/>
          <p:nvPr/>
        </p:nvGraphicFramePr>
        <p:xfrm>
          <a:off x="4572000" y="129528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29528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CorShape1"/>
          <p:cNvSpPr/>
          <p:nvPr/>
        </p:nvSpPr>
        <p:spPr>
          <a:xfrm>
            <a:off x="223920" y="1743120"/>
            <a:ext cx="291960" cy="291960"/>
          </a:xfrm>
          <a:prstGeom prst="rightArrow">
            <a:avLst>
              <a:gd name="adj1" fmla="val 43981"/>
              <a:gd name="adj2" fmla="val 50810"/>
            </a:avLst>
          </a:prstGeom>
          <a:gradFill rotWithShape="0">
            <a:gsLst>
              <a:gs pos="0">
                <a:srgbClr val="008000"/>
              </a:gs>
              <a:gs pos="100000">
                <a:srgbClr val="00ff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solving real-life application problems, we are often restricted to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quadrant of the coordinate plan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due to the fact that we cannot, for example, have negative time or a negative number of tic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ermine how many lawn and pavilion tickets Mr. Myers purch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e Last Proble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halet Market sells gift baskets for the holidays. The profit on a small basket is $15 and the profit on a large basket is $25. The owner would like to make a profit of at least $150 per day. The inequality 15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5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≥ 150 represents how many of each type of basket must be sold in a day to make a profit of $150. Graph the inequality and give one solution to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was your week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TPChart"/>
          <p:cNvGraphicFramePr/>
          <p:nvPr/>
        </p:nvGraphicFramePr>
        <p:xfrm>
          <a:off x="4038480" y="106668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06668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nd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newsflash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r. Myers is planning to take the Jazz Clu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a music festival.  Lawn tickets cost $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pavilion tickets cost $30.  If he plan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nd at most $300, how many of e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cket can Mr. Wheat purch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581280"/>
            <a:ext cx="8229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t’s define our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41911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 of Lawn Tickets s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 of Pavilion Tickets s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’s write the inequality to represent the problem.  Which do you think is the correct inequa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TPChart"/>
          <p:cNvGraphicFramePr/>
          <p:nvPr/>
        </p:nvGraphicFramePr>
        <p:xfrm>
          <a:off x="4267080" y="121932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1932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x + 30y =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0x + 20y &gt;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x + 30y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≤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20x + 30y &lt;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30x + 20y ≤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CorShape1"/>
          <p:cNvSpPr/>
          <p:nvPr/>
        </p:nvSpPr>
        <p:spPr>
          <a:xfrm>
            <a:off x="254160" y="3137040"/>
            <a:ext cx="253800" cy="2538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20x + 30y ≤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equality is written in two variables, x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.  It is very similar to an equation writte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variables.  But when it comes to graphing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equality in two variables, the result is a litt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olution set of an inequality in two variables contai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an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dered pairs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raph of these ordered pairs fills an area on the coordinate plan called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alf-pla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half-plane i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wo regions of the coordinate plane separated by the graph of a linear equ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alf-Pla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4038480" cy="3962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3200400" y="2209320"/>
            <a:ext cx="3276720" cy="26672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00800" y="152280"/>
            <a:ext cx="2133720" cy="16002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08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ere is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raph of the 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q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2209680"/>
            <a:ext cx="10666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Half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4114800"/>
            <a:ext cx="10666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Half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525780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aph of 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qu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fines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boundar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dg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where the graph of the inequality begins or 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will graph inequalities as follow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e the boundary by graphing the related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e whether the boundary line should b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i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ash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ine.  We determine this based on the inequality sig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inequality sign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≤ or ≥, the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oli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line is used.  Why do you think this is the c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If the inequality sign is &lt; or &gt;, the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dash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line is used.  Why do you think this is the c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00:02:12Z</dcterms:created>
  <dc:creator>admin</dc:creator>
  <dc:description/>
  <dc:language>en-US</dc:language>
  <cp:lastModifiedBy>admin</cp:lastModifiedBy>
  <dcterms:modified xsi:type="dcterms:W3CDTF">2007-04-16T01:06:20Z</dcterms:modified>
  <cp:revision>14</cp:revision>
  <dc:subject/>
  <dc:title>Lesson 12-6</dc:title>
</cp:coreProperties>
</file>